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C8DE-E3DC-4E03-B5A6-40F8C28587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415B-9052-4C92-9A4F-CA5158AFAF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1E1-6038-4D8D-B9E3-920CA3AE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3C1-0A3C-4269-9753-E308FEA4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153-9178-45FB-8CE6-6249E132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E06-6028-4C39-80DE-BC0DFACE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7953-08C3-407C-A4AA-32C6E52B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42BA-8D19-408C-8240-3A2F2EBD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C282-4562-4044-B854-0A58B0AD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DA3-B33A-4CCF-BC6B-27B3F59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71BC-DB63-4302-82BA-7CEF91C8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3ECD-2838-445A-B14F-E44BFE6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679B-4256-4878-BC53-C6BAFF7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993-10F5-4B73-B905-273BE2FD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D389-30F4-478E-8C1B-9DC188B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0162-3D9E-4C6C-B883-707E7BC0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1428-FCC9-4C98-BFDC-E2A4385C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E82-98A5-4599-A6CF-6B508D87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9CDC-AD3F-429D-9A2E-4FDA7DB2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2D5-BF1B-4F2C-BB3D-04ABD7BC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937-1CF0-4BBE-B526-BD81E8F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EA8-3FE2-4BD2-A032-06E793B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675-88C8-4C96-AC3E-F07D384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352-F583-49BE-829D-E9AE244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969-9044-44F6-879A-C8A757A2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4AB-D506-4EB0-8E60-211D3B9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E71D-4051-4AFC-9BDE-03A659AF96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5CCA-083C-4920-9295-764B3924F7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xashistory.unt.edu/ark:/67531/metapth16459/?q=native%20America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kcNbP3MjwE&amp;feature=related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youtube.com/watch?v=lTK4XiWqYi0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oom211.wikispaces.com/supersonic+Klickitat+and+Hoh+Indian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native-american"/>
          <p:cNvPicPr/>
          <p:nvPr/>
        </p:nvPicPr>
        <p:blipFill>
          <a:blip r:embed="rId1"/>
          <a:stretch/>
        </p:blipFill>
        <p:spPr>
          <a:xfrm>
            <a:off x="3429000" y="1752480"/>
            <a:ext cx="405936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838080" y="228600"/>
            <a:ext cx="683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American Indians in Texa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An Overvie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76840" y="2362320"/>
            <a:ext cx="30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d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aranka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um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4" descr="papoo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1447920"/>
            <a:ext cx="218916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MS900054266[1].mid" descr=""/>
          <p:cNvPicPr/>
          <p:nvPr/>
        </p:nvPicPr>
        <p:blipFill>
          <a:blip r:embed="rId4"/>
          <a:stretch/>
        </p:blipFill>
        <p:spPr>
          <a:xfrm>
            <a:off x="8610480" y="6222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7426440" y="4578480"/>
            <a:ext cx="123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534520" y="6222960"/>
            <a:ext cx="380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F55D-C9D1-4CF1-93F9-6C285B51AB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4000" y="6578640"/>
            <a:ext cx="15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 Aigner -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94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ad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66680"/>
            <a:ext cx="4314600" cy="4648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38080" y="228600"/>
            <a:ext cx="68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Caddo (Plains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165640" y="1403280"/>
            <a:ext cx="3521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coastal pla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farming-ate fruits, vegetables and gra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Grass Huts made out of wooden frames and dry gra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ed together as a confedera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led “mound builders”, made pottery, moved to Oklahoma, Gave Texas its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304920" y="5867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ddo Tribal Song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DD8-108E-4FF0-A6F1-AA9A4A7A43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143000" y="6221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mano Tribe Trib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ounded Rectangle 5">
            <a:hlinkClick r:id="rId3"/>
          </p:cNvPr>
          <p:cNvSpPr/>
          <p:nvPr/>
        </p:nvSpPr>
        <p:spPr>
          <a:xfrm>
            <a:off x="3486240" y="6262560"/>
            <a:ext cx="304560" cy="266760"/>
          </a:xfrm>
          <a:prstGeom prst="roundRect">
            <a:avLst>
              <a:gd name="adj" fmla="val 16667"/>
            </a:avLst>
          </a:prstGeom>
          <a:solidFill>
            <a:srgbClr val="ff474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79080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lick on shap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old-dugout-can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3444840" cy="5181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762120" y="228600"/>
            <a:ext cx="7296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Karankawa (Pueblo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1600200"/>
            <a:ext cx="35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coastal plains near the Gul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fishing-ate fish, shellfish, and small anim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Wood Framed Homes with woven grass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d appointed chiefs to lead vill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ads, made dugout canoes, died out from European dise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5834160" y="6357960"/>
            <a:ext cx="22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015-CEFC-4AAB-895D-BB667DABC6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jumano-indians-200X200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838080" y="228600"/>
            <a:ext cx="68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Jumano (Pueblo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257800" y="1981080"/>
            <a:ext cx="35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mountains near the Rio Grande Riv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farming-ate dried corn, squash and be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Adobe Pueb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village had a leader with its ow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ked using a hollow gourd, traded with other tri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752480" y="6097680"/>
            <a:ext cx="221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2BD5-698E-41D5-A3E5-086AC08E1F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nelsonapaches-crop"/>
          <p:cNvPicPr/>
          <p:nvPr/>
        </p:nvPicPr>
        <p:blipFill>
          <a:blip r:embed="rId1"/>
          <a:stretch/>
        </p:blipFill>
        <p:spPr>
          <a:xfrm>
            <a:off x="3733920" y="2057400"/>
            <a:ext cx="5410080" cy="2954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800" y="2286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Lipan Apache (Plains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28600" y="1905120"/>
            <a:ext cx="3521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South Texas pla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hunting- ate buffa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eep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hief led the trib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ads, made pottery, moved to reservation in early 1900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867280" y="5033880"/>
            <a:ext cx="221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E8C0-3568-47EC-AC09-47E5BCF768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1930320" y="5464080"/>
            <a:ext cx="304920" cy="265320"/>
          </a:xfrm>
          <a:prstGeom prst="roundRect">
            <a:avLst>
              <a:gd name="adj" fmla="val 16667"/>
            </a:avLst>
          </a:prstGeom>
          <a:solidFill>
            <a:srgbClr val="ff474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58840" y="5411880"/>
            <a:ext cx="16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pan War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162080" y="228600"/>
            <a:ext cx="68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American Indians in Texa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438280" y="54864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erican Indians are the ancestors of our country and our state.  What can we take away from their lives to apply to our ow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9" descr="1178757_370"/>
          <p:cNvPicPr/>
          <p:nvPr/>
        </p:nvPicPr>
        <p:blipFill>
          <a:blip r:embed="rId1"/>
          <a:stretch/>
        </p:blipFill>
        <p:spPr>
          <a:xfrm>
            <a:off x="1752480" y="990720"/>
            <a:ext cx="5334120" cy="4162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0"/>
          <p:cNvSpPr/>
          <p:nvPr/>
        </p:nvSpPr>
        <p:spPr>
          <a:xfrm rot="19185000">
            <a:off x="508680" y="5374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nk about i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666960" y="5210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90F5-9C52-4EA9-85C5-5C57FE615B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3:31:12Z</dcterms:created>
  <dc:creator>Internal User</dc:creator>
  <dc:description/>
  <dc:language>en-US</dc:language>
  <cp:lastModifiedBy>Owner</cp:lastModifiedBy>
  <dcterms:modified xsi:type="dcterms:W3CDTF">2013-10-05T13:14:32Z</dcterms:modified>
  <cp:revision>16</cp:revision>
  <dc:subject/>
  <dc:title>Slide 1</dc:title>
</cp:coreProperties>
</file>